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32004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fld id="{E75531FE-75F6-44F3-9FEE-0F064C85CB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28760" y="685440"/>
            <a:ext cx="2400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fld id="{C7C8CA22-3140-4481-B3D1-4D73EC6CF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228760" y="685800"/>
            <a:ext cx="240048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fld id="{B264BBEE-5A17-41E5-AB3D-B39BE8578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228760" y="685800"/>
            <a:ext cx="240048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fld id="{8302377C-73C1-41A0-B881-545DE5981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228760" y="685800"/>
            <a:ext cx="240048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fld id="{F5D8012A-5959-492B-AEE9-F7CB33CFC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7F8-4E2E-46C2-AB96-1CA5B29B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200" y="1066320"/>
            <a:ext cx="288000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200" y="2642760"/>
            <a:ext cx="288000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3E6-29B7-4619-91F9-A7E32ABA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200" y="1066320"/>
            <a:ext cx="140508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5840" y="1066320"/>
            <a:ext cx="140508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200" y="2642760"/>
            <a:ext cx="140508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5840" y="2642760"/>
            <a:ext cx="140508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DF0-2AE7-4F83-8C3C-5B3B345C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200" y="1066320"/>
            <a:ext cx="92700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34000" y="1066320"/>
            <a:ext cx="92700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7800" y="1066320"/>
            <a:ext cx="92700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200" y="2642760"/>
            <a:ext cx="92700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34000" y="2642760"/>
            <a:ext cx="92700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7800" y="2642760"/>
            <a:ext cx="92700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44A-B49E-43B6-9501-B031AAF2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200" y="1066320"/>
            <a:ext cx="288000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FAE-85B0-49A3-ADD0-655D2A9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200" y="1066320"/>
            <a:ext cx="2880000" cy="30178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E2F-3B42-440C-A3BA-20F12EB2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200" y="1066320"/>
            <a:ext cx="1405080" cy="30178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5840" y="1066320"/>
            <a:ext cx="1405080" cy="30178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37A-7F47-424A-A052-82354491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FE1-8A38-4478-8569-92B273CD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200" y="182160"/>
            <a:ext cx="2880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9F9-5256-4D8B-9DAD-97748943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200" y="1066320"/>
            <a:ext cx="140508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5840" y="1066320"/>
            <a:ext cx="1405080" cy="30178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200" y="2642760"/>
            <a:ext cx="140508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12A-54A5-4377-8E5B-C15E522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200" y="1066320"/>
            <a:ext cx="1405080" cy="30178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5840" y="1066320"/>
            <a:ext cx="140508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5840" y="2642760"/>
            <a:ext cx="140508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9DD-8EFB-45C3-9D30-25B77844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200" y="1066320"/>
            <a:ext cx="140508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5840" y="1066320"/>
            <a:ext cx="140508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200" y="2642760"/>
            <a:ext cx="2880000" cy="1439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676-9AC8-4451-B014-06FEDABD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200" y="182160"/>
            <a:ext cx="2880000" cy="762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200" y="1066320"/>
            <a:ext cx="2880000" cy="30178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marL="165240" indent="-165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38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54040" indent="-10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09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998640" indent="-109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998640" indent="-109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998640" indent="-109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9840" y="4236840"/>
            <a:ext cx="746280" cy="24444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fld id="{3A601CD2-7E4D-4338-8F3D-B7AE2863BCFF}" type="datetime">
              <a:rPr b="0" lang="en-US" sz="6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680" y="4236840"/>
            <a:ext cx="1013040" cy="24444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60" y="4236840"/>
            <a:ext cx="746280" cy="24444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fld id="{472BAD2F-0D19-4D6D-B411-FE342FF63EAC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9760" y="700200"/>
            <a:ext cx="2720880" cy="8287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eSupport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rac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680840"/>
            <a:ext cx="2579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4280" rIns="44280" tIns="22320" bIns="22320"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Easy as 1-2-3!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havior Defin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t Go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ack for two wee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574560" indent="-342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  <a:tab algn="l" pos="4633920"/>
                <a:tab algn="l" pos="485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ily counting 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574560" indent="-342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  <a:tab algn="l" pos="4633920"/>
                <a:tab algn="l" pos="485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al progress char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9760" y="3935520"/>
            <a:ext cx="25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/Name: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828720" y="112680"/>
            <a:ext cx="149220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1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1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1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2880000" cy="5637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AMILY &amp; PERSONAL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9840" y="762120"/>
            <a:ext cx="2963880" cy="35049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 fontScale="99000"/>
          </a:bodyPr>
          <a:p>
            <a:pPr marL="163440" indent="-16344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Daily Problem Solv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djusting or facilitating work assignments to support employees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family or personal need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elling employees about existing company resources or policies that support family or personal need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pressing empathy, understanding, or offering help when an employee shares a family or personal challeng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elebrating employees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family or personal succ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sking open-ended questions to elicit employees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family or personal needs, such as 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at can I do to help?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Role Mod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haring a family or personal priority with an employ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haring ideas or advice with employees about how you manage your own work and family or personal prior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perimenting with new ways of doing work that benefits your own family or personal life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Creativ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sking for input about how work can be organized to benefit BOTH company and family or personal prior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mplementing a new group work method that better supports employees family or personal prior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3440" indent="-163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ncouraging employees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to experiment with new ways of doing work that benefit their family or personal l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187200" y="152280"/>
            <a:ext cx="2936880" cy="427320"/>
            <a:chOff x="187200" y="152280"/>
            <a:chExt cx="2936880" cy="427320"/>
          </a:xfrm>
        </p:grpSpPr>
        <p:sp>
          <p:nvSpPr>
            <p:cNvPr id="55" name="TextBox 3"/>
            <p:cNvSpPr/>
            <p:nvPr/>
          </p:nvSpPr>
          <p:spPr>
            <a:xfrm>
              <a:off x="242640" y="226800"/>
              <a:ext cx="28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0680"/>
                  <a:tab algn="l" pos="441360"/>
                  <a:tab algn="l" pos="662040"/>
                  <a:tab algn="l" pos="882720"/>
                  <a:tab algn="l" pos="1103400"/>
                  <a:tab algn="l" pos="1324080"/>
                  <a:tab algn="l" pos="1544760"/>
                  <a:tab algn="l" pos="1765440"/>
                  <a:tab algn="l" pos="1986120"/>
                  <a:tab algn="l" pos="2206800"/>
                  <a:tab algn="l" pos="2427120"/>
                  <a:tab algn="l" pos="2647800"/>
                  <a:tab algn="l" pos="2868480"/>
                  <a:tab algn="l" pos="3089160"/>
                  <a:tab algn="l" pos="3309840"/>
                  <a:tab algn="l" pos="3530520"/>
                  <a:tab algn="l" pos="3751200"/>
                  <a:tab algn="l" pos="3971880"/>
                  <a:tab algn="l" pos="4192560"/>
                  <a:tab algn="l" pos="44132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BEHAVIOR DEFINI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7" descr="1 pic.jpg"/>
            <p:cNvPicPr/>
            <p:nvPr/>
          </p:nvPicPr>
          <p:blipFill>
            <a:blip r:embed="rId1"/>
            <a:stretch/>
          </p:blipFill>
          <p:spPr>
            <a:xfrm>
              <a:off x="187200" y="152280"/>
              <a:ext cx="421920" cy="42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200" y="38088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"/>
          <p:cNvPicPr/>
          <p:nvPr/>
        </p:nvPicPr>
        <p:blipFill>
          <a:blip r:embed="rId1"/>
          <a:stretch/>
        </p:blipFill>
        <p:spPr>
          <a:xfrm>
            <a:off x="146160" y="958680"/>
            <a:ext cx="844560" cy="56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2"/>
          <a:stretch/>
        </p:blipFill>
        <p:spPr>
          <a:xfrm>
            <a:off x="177840" y="3759120"/>
            <a:ext cx="736560" cy="7365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838080" y="16002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838080" y="24987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844560" y="33526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914400" y="4191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1166760" y="895320"/>
            <a:ext cx="1881360" cy="3524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0"/>
          <p:cNvSpPr/>
          <p:nvPr/>
        </p:nvSpPr>
        <p:spPr>
          <a:xfrm>
            <a:off x="2209680" y="4032720"/>
            <a:ext cx="762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177840" y="257040"/>
            <a:ext cx="294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Y &amp; PERSONAL SUPPORT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2" descr=""/>
          <p:cNvPicPr/>
          <p:nvPr/>
        </p:nvPicPr>
        <p:blipFill>
          <a:blip r:embed="rId1"/>
          <a:stretch/>
        </p:blipFill>
        <p:spPr>
          <a:xfrm>
            <a:off x="146160" y="958680"/>
            <a:ext cx="844560" cy="56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177840" y="3759120"/>
            <a:ext cx="736560" cy="7365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838080" y="16002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838080" y="24987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844560" y="33526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914400" y="4191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3"/>
          <a:stretch/>
        </p:blipFill>
        <p:spPr>
          <a:xfrm>
            <a:off x="1166760" y="895320"/>
            <a:ext cx="1881360" cy="35244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0"/>
          <p:cNvSpPr/>
          <p:nvPr/>
        </p:nvSpPr>
        <p:spPr>
          <a:xfrm>
            <a:off x="2209680" y="4032720"/>
            <a:ext cx="762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177840" y="257040"/>
            <a:ext cx="294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SUPPORT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120" y="426960"/>
            <a:ext cx="2880000" cy="48744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FORMANCE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0200" y="837720"/>
            <a:ext cx="2880000" cy="358164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marL="165240" indent="-1652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Measurement &amp; Dire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llecting or recording data on individual or group performa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tting a goal or sharing a clear and measurable expectation with an employee or t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oviding advance notice about upcoming events that could change or disrupt employees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wor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Feedback &amp; Coach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oviding praise for a good idea or work resul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iving feedback (OR asking for feedback) about performance data, progress toward goals, or the quality of work resul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eaching an employee a technical skill or work strateg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Providing Resourc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sking an employee about the adequacy of their equipment, tools, or resourc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sking 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at can I do to help you get your job done?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oviding support or tools that employees need to accomplish their work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Support for Chan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sking for or listening to employee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 suggestions about new ways to measure or accomplish work resul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pressing support for the STAR process, or discussing challenges that arise while people make chang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inforcing  employee behavior that helps your group achieve the 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uideposts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of a STAR work environ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187200" y="152280"/>
            <a:ext cx="2936880" cy="427320"/>
            <a:chOff x="187200" y="152280"/>
            <a:chExt cx="2936880" cy="427320"/>
          </a:xfrm>
        </p:grpSpPr>
        <p:sp>
          <p:nvSpPr>
            <p:cNvPr id="60" name="TextBox 7"/>
            <p:cNvSpPr/>
            <p:nvPr/>
          </p:nvSpPr>
          <p:spPr>
            <a:xfrm>
              <a:off x="242640" y="226800"/>
              <a:ext cx="28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0680"/>
                  <a:tab algn="l" pos="441360"/>
                  <a:tab algn="l" pos="662040"/>
                  <a:tab algn="l" pos="882720"/>
                  <a:tab algn="l" pos="1103400"/>
                  <a:tab algn="l" pos="1324080"/>
                  <a:tab algn="l" pos="1544760"/>
                  <a:tab algn="l" pos="1765440"/>
                  <a:tab algn="l" pos="1986120"/>
                  <a:tab algn="l" pos="2206800"/>
                  <a:tab algn="l" pos="2427120"/>
                  <a:tab algn="l" pos="2647800"/>
                  <a:tab algn="l" pos="2868480"/>
                  <a:tab algn="l" pos="3089160"/>
                  <a:tab algn="l" pos="3309840"/>
                  <a:tab algn="l" pos="3530520"/>
                  <a:tab algn="l" pos="3751200"/>
                  <a:tab algn="l" pos="3971880"/>
                  <a:tab algn="l" pos="4192560"/>
                  <a:tab algn="l" pos="44132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BEHAVIOR DEFINI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8" descr="1 pic.jpg"/>
            <p:cNvPicPr/>
            <p:nvPr/>
          </p:nvPicPr>
          <p:blipFill>
            <a:blip r:embed="rId1"/>
            <a:stretch/>
          </p:blipFill>
          <p:spPr>
            <a:xfrm>
              <a:off x="187200" y="152280"/>
              <a:ext cx="421920" cy="42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60200" y="685800"/>
            <a:ext cx="2880000" cy="3581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t">
            <a:normAutofit/>
          </a:bodyPr>
          <a:p>
            <a:pPr marL="165240" indent="-16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AMILY &amp; PERSONAL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Recommended two-week goal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one support per employee per wee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# employees) x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FORMANCE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Recommended two-week goa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one support per employee per wee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# employees) x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nter your goals into you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goal charts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like the example 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65240" indent="-1652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he next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244440" y="152280"/>
            <a:ext cx="2879640" cy="439920"/>
            <a:chOff x="244440" y="152280"/>
            <a:chExt cx="2879640" cy="439920"/>
          </a:xfrm>
        </p:grpSpPr>
        <p:sp>
          <p:nvSpPr>
            <p:cNvPr id="64" name="TextBox 4"/>
            <p:cNvSpPr/>
            <p:nvPr/>
          </p:nvSpPr>
          <p:spPr>
            <a:xfrm>
              <a:off x="244440" y="226800"/>
              <a:ext cx="28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0680"/>
                  <a:tab algn="l" pos="441360"/>
                  <a:tab algn="l" pos="662040"/>
                  <a:tab algn="l" pos="882720"/>
                  <a:tab algn="l" pos="1103400"/>
                  <a:tab algn="l" pos="1324080"/>
                  <a:tab algn="l" pos="1544760"/>
                  <a:tab algn="l" pos="1765440"/>
                  <a:tab algn="l" pos="1986120"/>
                  <a:tab algn="l" pos="2206800"/>
                  <a:tab algn="l" pos="2427120"/>
                  <a:tab algn="l" pos="2647800"/>
                  <a:tab algn="l" pos="2868480"/>
                  <a:tab algn="l" pos="3089160"/>
                  <a:tab algn="l" pos="3309840"/>
                  <a:tab algn="l" pos="3530520"/>
                  <a:tab algn="l" pos="3751200"/>
                  <a:tab algn="l" pos="3971880"/>
                  <a:tab algn="l" pos="4192560"/>
                  <a:tab algn="l" pos="44132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SET GO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6" descr="2 pic.jpg"/>
            <p:cNvPicPr/>
            <p:nvPr/>
          </p:nvPicPr>
          <p:blipFill>
            <a:blip r:embed="rId1"/>
            <a:stretch/>
          </p:blipFill>
          <p:spPr>
            <a:xfrm>
              <a:off x="244440" y="152280"/>
              <a:ext cx="434160" cy="4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374760" y="1676520"/>
            <a:ext cx="844560" cy="56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200" y="639720"/>
            <a:ext cx="2880000" cy="503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EXAMPLE GOAL CHART</a:t>
            </a:r>
            <a:br>
              <a:rPr sz="1700"/>
            </a:b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28 employees</a:t>
            </a:r>
            <a:br>
              <a:rPr sz="17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406440" y="3683160"/>
            <a:ext cx="736560" cy="736560"/>
          </a:xfrm>
          <a:prstGeom prst="rect">
            <a:avLst/>
          </a:prstGeom>
          <a:ln w="0">
            <a:noFill/>
          </a:ln>
        </p:spPr>
      </p:pic>
      <p:sp>
        <p:nvSpPr>
          <p:cNvPr id="69" name="Straight Connector 8"/>
          <p:cNvSpPr/>
          <p:nvPr/>
        </p:nvSpPr>
        <p:spPr>
          <a:xfrm>
            <a:off x="228600" y="2817720"/>
            <a:ext cx="1066680" cy="18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244440" y="152280"/>
            <a:ext cx="2879640" cy="439920"/>
            <a:chOff x="244440" y="152280"/>
            <a:chExt cx="2879640" cy="439920"/>
          </a:xfrm>
        </p:grpSpPr>
        <p:sp>
          <p:nvSpPr>
            <p:cNvPr id="71" name="TextBox 10"/>
            <p:cNvSpPr/>
            <p:nvPr/>
          </p:nvSpPr>
          <p:spPr>
            <a:xfrm>
              <a:off x="244440" y="226800"/>
              <a:ext cx="28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0680"/>
                  <a:tab algn="l" pos="441360"/>
                  <a:tab algn="l" pos="662040"/>
                  <a:tab algn="l" pos="882720"/>
                  <a:tab algn="l" pos="1103400"/>
                  <a:tab algn="l" pos="1324080"/>
                  <a:tab algn="l" pos="1544760"/>
                  <a:tab algn="l" pos="1765440"/>
                  <a:tab algn="l" pos="1986120"/>
                  <a:tab algn="l" pos="2206800"/>
                  <a:tab algn="l" pos="2427120"/>
                  <a:tab algn="l" pos="2647800"/>
                  <a:tab algn="l" pos="2868480"/>
                  <a:tab algn="l" pos="3089160"/>
                  <a:tab algn="l" pos="3309840"/>
                  <a:tab algn="l" pos="3530520"/>
                  <a:tab algn="l" pos="3751200"/>
                  <a:tab algn="l" pos="3971880"/>
                  <a:tab algn="l" pos="4192560"/>
                  <a:tab algn="l" pos="44132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SET GO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1" descr="2 pic.jpg"/>
            <p:cNvPicPr/>
            <p:nvPr/>
          </p:nvPicPr>
          <p:blipFill>
            <a:blip r:embed="rId3"/>
            <a:stretch/>
          </p:blipFill>
          <p:spPr>
            <a:xfrm>
              <a:off x="244440" y="152280"/>
              <a:ext cx="434160" cy="43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15" descr=""/>
          <p:cNvPicPr/>
          <p:nvPr/>
        </p:nvPicPr>
        <p:blipFill>
          <a:blip r:embed="rId4"/>
          <a:stretch/>
        </p:blipFill>
        <p:spPr>
          <a:xfrm>
            <a:off x="1219320" y="1295280"/>
            <a:ext cx="1544400" cy="3124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8"/>
          <p:cNvSpPr/>
          <p:nvPr/>
        </p:nvSpPr>
        <p:spPr>
          <a:xfrm>
            <a:off x="2133720" y="4077720"/>
            <a:ext cx="6094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ular Callout 19"/>
          <p:cNvSpPr/>
          <p:nvPr/>
        </p:nvSpPr>
        <p:spPr>
          <a:xfrm>
            <a:off x="152280" y="2968560"/>
            <a:ext cx="914400" cy="612720"/>
          </a:xfrm>
          <a:prstGeom prst="wedgeRoundRectCallout">
            <a:avLst>
              <a:gd name="adj1" fmla="val 49305"/>
              <a:gd name="adj2" fmla="val -72240"/>
              <a:gd name="adj3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raw and mark go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ular Callout 20"/>
          <p:cNvSpPr/>
          <p:nvPr/>
        </p:nvSpPr>
        <p:spPr>
          <a:xfrm>
            <a:off x="2133720" y="2666880"/>
            <a:ext cx="914400" cy="1295640"/>
          </a:xfrm>
          <a:prstGeom prst="wedgeRoundRectCallout">
            <a:avLst>
              <a:gd name="adj1" fmla="val -118750"/>
              <a:gd name="adj2" fmla="val 71634"/>
              <a:gd name="adj3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Fill square for each behavior recorded on daily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5"/>
          <p:cNvGrpSpPr/>
          <p:nvPr/>
        </p:nvGrpSpPr>
        <p:grpSpPr>
          <a:xfrm>
            <a:off x="990720" y="2228760"/>
            <a:ext cx="457200" cy="2192760"/>
            <a:chOff x="990720" y="2228760"/>
            <a:chExt cx="457200" cy="2192760"/>
          </a:xfrm>
        </p:grpSpPr>
        <p:sp>
          <p:nvSpPr>
            <p:cNvPr id="78" name="TextBox 21"/>
            <p:cNvSpPr/>
            <p:nvPr/>
          </p:nvSpPr>
          <p:spPr>
            <a:xfrm>
              <a:off x="990720" y="22287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0680"/>
                  <a:tab algn="l" pos="441360"/>
                  <a:tab algn="l" pos="662040"/>
                  <a:tab algn="l" pos="882720"/>
                  <a:tab algn="l" pos="1103400"/>
                  <a:tab algn="l" pos="1324080"/>
                  <a:tab algn="l" pos="1544760"/>
                  <a:tab algn="l" pos="1765440"/>
                  <a:tab algn="l" pos="1986120"/>
                  <a:tab algn="l" pos="2206800"/>
                  <a:tab algn="l" pos="2427120"/>
                  <a:tab algn="l" pos="2647800"/>
                  <a:tab algn="l" pos="2868480"/>
                  <a:tab algn="l" pos="3089160"/>
                  <a:tab algn="l" pos="3309840"/>
                  <a:tab algn="l" pos="3530520"/>
                  <a:tab algn="l" pos="3751200"/>
                  <a:tab algn="l" pos="3971880"/>
                  <a:tab algn="l" pos="4192560"/>
                  <a:tab algn="l" pos="44132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7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22"/>
            <p:cNvSpPr/>
            <p:nvPr/>
          </p:nvSpPr>
          <p:spPr>
            <a:xfrm>
              <a:off x="990720" y="286524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0680"/>
                  <a:tab algn="l" pos="441360"/>
                  <a:tab algn="l" pos="662040"/>
                  <a:tab algn="l" pos="882720"/>
                  <a:tab algn="l" pos="1103400"/>
                  <a:tab algn="l" pos="1324080"/>
                  <a:tab algn="l" pos="1544760"/>
                  <a:tab algn="l" pos="1765440"/>
                  <a:tab algn="l" pos="1986120"/>
                  <a:tab algn="l" pos="2206800"/>
                  <a:tab algn="l" pos="2427120"/>
                  <a:tab algn="l" pos="2647800"/>
                  <a:tab algn="l" pos="2868480"/>
                  <a:tab algn="l" pos="3089160"/>
                  <a:tab algn="l" pos="3309840"/>
                  <a:tab algn="l" pos="3530520"/>
                  <a:tab algn="l" pos="3751200"/>
                  <a:tab algn="l" pos="3971880"/>
                  <a:tab algn="l" pos="4192560"/>
                  <a:tab algn="l" pos="44132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23"/>
            <p:cNvSpPr/>
            <p:nvPr/>
          </p:nvSpPr>
          <p:spPr>
            <a:xfrm>
              <a:off x="996840" y="353844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0680"/>
                  <a:tab algn="l" pos="441360"/>
                  <a:tab algn="l" pos="662040"/>
                  <a:tab algn="l" pos="882720"/>
                  <a:tab algn="l" pos="1103400"/>
                  <a:tab algn="l" pos="1324080"/>
                  <a:tab algn="l" pos="1544760"/>
                  <a:tab algn="l" pos="1765440"/>
                  <a:tab algn="l" pos="1986120"/>
                  <a:tab algn="l" pos="2206800"/>
                  <a:tab algn="l" pos="2427120"/>
                  <a:tab algn="l" pos="2647800"/>
                  <a:tab algn="l" pos="2868480"/>
                  <a:tab algn="l" pos="3089160"/>
                  <a:tab algn="l" pos="3309840"/>
                  <a:tab algn="l" pos="3530520"/>
                  <a:tab algn="l" pos="3751200"/>
                  <a:tab algn="l" pos="3971880"/>
                  <a:tab algn="l" pos="4192560"/>
                  <a:tab algn="l" pos="44132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4"/>
            <p:cNvSpPr/>
            <p:nvPr/>
          </p:nvSpPr>
          <p:spPr>
            <a:xfrm>
              <a:off x="1066680" y="41752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0680"/>
                  <a:tab algn="l" pos="441360"/>
                  <a:tab algn="l" pos="662040"/>
                  <a:tab algn="l" pos="882720"/>
                  <a:tab algn="l" pos="1103400"/>
                  <a:tab algn="l" pos="1324080"/>
                  <a:tab algn="l" pos="1544760"/>
                  <a:tab algn="l" pos="1765440"/>
                  <a:tab algn="l" pos="1986120"/>
                  <a:tab algn="l" pos="2206800"/>
                  <a:tab algn="l" pos="2427120"/>
                  <a:tab algn="l" pos="2647800"/>
                  <a:tab algn="l" pos="2868480"/>
                  <a:tab algn="l" pos="3089160"/>
                  <a:tab algn="l" pos="3309840"/>
                  <a:tab algn="l" pos="3530520"/>
                  <a:tab algn="l" pos="3751200"/>
                  <a:tab algn="l" pos="3971880"/>
                  <a:tab algn="l" pos="4192560"/>
                  <a:tab algn="l" pos="44132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18"/>
          <p:cNvSpPr/>
          <p:nvPr/>
        </p:nvSpPr>
        <p:spPr>
          <a:xfrm>
            <a:off x="533520" y="123516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MILY &amp; PERSONAL SUPPORT CH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ular Callout 18"/>
          <p:cNvSpPr/>
          <p:nvPr/>
        </p:nvSpPr>
        <p:spPr>
          <a:xfrm>
            <a:off x="2133720" y="1143000"/>
            <a:ext cx="914400" cy="762120"/>
          </a:xfrm>
          <a:prstGeom prst="wedgeRoundRectCallout">
            <a:avLst>
              <a:gd name="adj1" fmla="val 3462"/>
              <a:gd name="adj2" fmla="val 82851"/>
              <a:gd name="adj3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wo-week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(28x2=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152280" y="534960"/>
            <a:ext cx="288288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EXAMPLE DAILY FOR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0"/>
          <p:cNvGrpSpPr/>
          <p:nvPr/>
        </p:nvGrpSpPr>
        <p:grpSpPr>
          <a:xfrm>
            <a:off x="228600" y="152280"/>
            <a:ext cx="2895480" cy="432000"/>
            <a:chOff x="228600" y="152280"/>
            <a:chExt cx="2895480" cy="432000"/>
          </a:xfrm>
        </p:grpSpPr>
        <p:sp>
          <p:nvSpPr>
            <p:cNvPr id="86" name="TextBox 5"/>
            <p:cNvSpPr/>
            <p:nvPr/>
          </p:nvSpPr>
          <p:spPr>
            <a:xfrm>
              <a:off x="244440" y="226800"/>
              <a:ext cx="28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0680"/>
                  <a:tab algn="l" pos="441360"/>
                  <a:tab algn="l" pos="662040"/>
                  <a:tab algn="l" pos="882720"/>
                  <a:tab algn="l" pos="1103400"/>
                  <a:tab algn="l" pos="1324080"/>
                  <a:tab algn="l" pos="1544760"/>
                  <a:tab algn="l" pos="1765440"/>
                  <a:tab algn="l" pos="1986120"/>
                  <a:tab algn="l" pos="2206800"/>
                  <a:tab algn="l" pos="2427120"/>
                  <a:tab algn="l" pos="2647800"/>
                  <a:tab algn="l" pos="2868480"/>
                  <a:tab algn="l" pos="3089160"/>
                  <a:tab algn="l" pos="3309840"/>
                  <a:tab algn="l" pos="3530520"/>
                  <a:tab algn="l" pos="3751200"/>
                  <a:tab algn="l" pos="3971880"/>
                  <a:tab algn="l" pos="4192560"/>
                  <a:tab algn="l" pos="44132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TRACK FOR 10 WORKDA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9" descr="3 pic.jpg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4269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192240" y="990720"/>
            <a:ext cx="281592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200" y="37620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200" y="37620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200" y="376200"/>
            <a:ext cx="2880000" cy="30960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22320" bIns="22320" anchor="ctr">
            <a:noAutofit/>
          </a:bodyPr>
          <a:p>
            <a:pPr indent="0" algn="ctr">
              <a:buNone/>
              <a:tabLst>
                <a:tab algn="l" pos="0"/>
                <a:tab algn="l" pos="220680"/>
                <a:tab algn="l" pos="441360"/>
                <a:tab algn="l" pos="662040"/>
                <a:tab algn="l" pos="882720"/>
                <a:tab algn="l" pos="1103400"/>
                <a:tab algn="l" pos="1324080"/>
                <a:tab algn="l" pos="1544760"/>
                <a:tab algn="l" pos="1765440"/>
                <a:tab algn="l" pos="1986120"/>
                <a:tab algn="l" pos="2206800"/>
                <a:tab algn="l" pos="2427120"/>
                <a:tab algn="l" pos="2647800"/>
                <a:tab algn="l" pos="2868480"/>
                <a:tab algn="l" pos="3089160"/>
                <a:tab algn="l" pos="3309840"/>
                <a:tab algn="l" pos="3530520"/>
                <a:tab algn="l" pos="3751200"/>
                <a:tab algn="l" pos="3971880"/>
                <a:tab algn="l" pos="4192560"/>
                <a:tab algn="l" pos="441324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DAY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12760" y="809640"/>
            <a:ext cx="27748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21:42:10Z</dcterms:created>
  <dc:creator>Ryan Olson</dc:creator>
  <dc:description/>
  <dc:language>en-US</dc:language>
  <cp:lastModifiedBy>Brad Wipfli</cp:lastModifiedBy>
  <dcterms:modified xsi:type="dcterms:W3CDTF">2013-02-15T23:28:49Z</dcterms:modified>
  <cp:revision>87</cp:revision>
  <dc:subject/>
  <dc:title>Habit-Tracking Exercise Daily Supportive Interactions</dc:title>
</cp:coreProperties>
</file>